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5BF2-071F-4DF7-A73B-2ED638D7FFE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3CE95-EBE5-4FF5-A042-CD19250C08A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8A5D-0105-4333-BDEE-E5DB1F6A1A1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E483D-6279-4051-A192-BDEFAB808A6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1A595-A385-4BFD-A2CA-453A2853A13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FAEC6-4C5B-48D5-9EF1-3AA9DC6582A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6F476-A716-493A-8B74-0197797FD45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1AC0E-B4EB-4B8B-A91B-63CEF15C022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07FB-9019-4579-9728-F4AFD278ECB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1C0D9-51B1-4D76-8F80-9071374371B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B9042-FA63-4145-A529-5C0B42C76F2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4AF0A-A6EA-4BCF-8142-B249C106370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6FA38-04F7-4BD3-B57A-0020D9987FF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BCBD-0F8D-430C-9B4E-ED0E4284903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6A5AC-667D-4856-832D-4833E7836E2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04A4-96E8-489D-A918-1879D71EB9B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E0776-1B1E-41C6-9020-A2D843CDE8B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2F72-AE8C-4D43-BF5D-4ADFA51C615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7FF94-584B-49D0-B408-6956332569D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10C55-6B0E-4289-B695-0EAE7151B06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9417F-4D78-4F1C-8FBC-46281EAD746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078A7-AE44-4280-B4F7-3CC81670A24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CE74-C49F-4409-98D7-32B178A6168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12DC-2AF7-4DCF-8CDC-185917F00C4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79611-5370-403D-8E71-C7355BE9927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2858-1E4A-4C1D-8B40-70E48DE6D6C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DF8FC-8D86-43AF-AFA0-F8D4D5E6B4C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E796-486C-4AAA-AF79-C49EB67B0D1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DE1CE-9D30-42AD-93B0-6AE4EC3ED71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A156F-29C7-4E62-881E-F90EE61516B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5E5-3992-459D-B07B-CAD6689C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797-C4DE-4D82-A344-A59C9CA0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C3E-0ACE-4DEF-8698-CDA4875C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8EF-530B-49FA-BED4-5B01ABE8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F13-E5D0-419C-9F38-46CF6D7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B7E-DF8A-416B-8AE2-B667365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111-EB97-424D-8BFC-B0364CA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984-4700-4BC9-8D0D-026803B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E89-B1F5-4394-BD1E-D011D2B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C77-E5DD-4FD6-B0F9-27B1FE8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982-E3D5-4441-8BE9-DCBF1BD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13E-4D43-4418-83B1-5843CC0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A65580-7177-49C3-BBFF-BABD86E11F2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osch.de/" TargetMode="External"/><Relationship Id="rId2" Type="http://schemas.openxmlformats.org/officeDocument/2006/relationships/hyperlink" Target="http://www.wikipedia.org/wiki/Rekuperationsbremse" TargetMode="External"/><Relationship Id="rId3" Type="http://schemas.openxmlformats.org/officeDocument/2006/relationships/hyperlink" Target="http://www.varta.de/" TargetMode="External"/><Relationship Id="rId4" Type="http://schemas.openxmlformats.org/officeDocument/2006/relationships/hyperlink" Target="http://www.wikipedia.org/wiki/Bleiakkumula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                                                    Datum: 06.05.2011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Bremsenergierückgewinnung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79640"/>
            <a:ext cx="10080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Zwei Konzep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 konventionellen Ver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rennungsmotor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gescho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Ladezustand der Batt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rd überwacht und gg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la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2.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m Hybridsystem.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zurück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won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kann in ein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Zwischenspeicher bzw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Akku transferiert wer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Datum: 06.05.2011                                            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Vorteile der Rekup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51040"/>
            <a:ext cx="9070920" cy="7068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Geringerer Kraftstoffverbrauch(3%), weniger </a:t>
            </a:r>
            <a:r>
              <a:rPr b="0" lang="en-US" sz="2600" spc="-1" strike="noStrike">
                <a:solidFill>
                  <a:srgbClr val="19630d"/>
                </a:solidFill>
                <a:latin typeface="Times New Roman"/>
              </a:rPr>
              <a:t>CO</a:t>
            </a: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ehr Antriebskraft beim Beschleuni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otorbremsfunktion, dadurch weniger Verschleiß v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Getriebe; weniger Verschleiß der Bremsbelä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  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ie viel Kraftstoff benötigt der Gener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7280" y="900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soll der Kraftstoffverbrauch auf 100km errechnet werden, der durch den Generator entste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g: U = 12V ; I = 65A; η = 0,9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s:  W in kWh /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 in kW </a:t>
            </a: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· 1h = Arbeit in 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Hinweis: 1l / 100km ≙ 10kWh/ 100k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20720" y="5219640"/>
          <a:ext cx="899964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19640"/>
                    <a:ext cx="8999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907092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Lösung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89564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351W/ 0,9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501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 · 1 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1,501kWh = 0,1501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80000" y="2518920"/>
            <a:ext cx="4067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Schlusssatz: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Generator wird auf einer Strecke von 100km ca. </a:t>
            </a: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150ml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mehr verbraucht, unter Vernachlässigung der          Reibungsverlust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0320"/>
            <a:ext cx="907092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arum verbraucht ein Fahrzeug ohn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ohne Rekuperation mehr?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18920" y="1800000"/>
            <a:ext cx="684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dauerhaften Antrieb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s Generators muss der Motor d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derstand (das Magnetfeld) überwin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und gibt damit einen Te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seiner Leistung ab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ies hat einen höheren Kraftstoffverbrauch zur Fol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Der 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er Widerstand ist das Resultat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verschiedenen Verlu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Reibungsverluste( Kollektor, Schleifri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icklungsverluste( Wirbelstromverlu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agnetisierungsverluste( entstehende Wärme durch ständiges Ummagnetisier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-179280" y="-179280"/>
            <a:ext cx="10439280" cy="79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VARTA_FINALRENDER_GERMAN_01.wmv" descr=""/>
          <p:cNvPicPr/>
          <p:nvPr/>
        </p:nvPicPr>
        <p:blipFill>
          <a:blip r:embed="rId1"/>
          <a:stretch/>
        </p:blipFill>
        <p:spPr>
          <a:xfrm>
            <a:off x="0" y="17640"/>
            <a:ext cx="10080720" cy="757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Datum: 06.05.2011                                                  13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Bestandteile eines Rekuperations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90200"/>
            <a:ext cx="9720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otor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otorsteuergerät mit integrierter Generatorregelung 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-Gaspedal mit Schuberken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Batterie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ensor mit integriertem Steuergerät und e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eziellen AGM-Batte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Multifunktionsregler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Generator mit Anbindung zum Can-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1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Vernetzung de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692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r Datentransfer bei der Rekuperation verläuft mit d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-BUS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 bedeutet Controller Area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besteht aus zwei Datenleitungen(CAN-High; CAN-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Funktioniert nach dem Master-Slave Prinz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werden weniger Kabelstränge und Sensoren benötig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AN-Daten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380000" cy="4679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60000" y="6672240"/>
            <a:ext cx="38163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Quelle: kfz-te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6520"/>
            <a:ext cx="907092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Die Emissionen                              6. Zwei Konzept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Ein Problem                                    7. Vorteile der Reku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Ein Lösungsansatz?                       8. Wie viel Kraftstoff benötigt 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Idee                                           9. Lö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 Rekuperation beim Kfz                  10. Warum verbraucht ein Fahrze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Rekuperation meh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1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as Batterie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ährend der Fahrt laufende Kontrolle der Batteri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annung und Ladeaktivitä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 Bedarf erhöht das System d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Leerlaufdrehzahl geringfügig um die Leis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s Ladegenerators zu erhö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In extremen Fällen werden kurzzeitig beso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verbrauchsintensive Komponenten deaktiv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Komfort leidet darunter n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199280" y="2879640"/>
            <a:ext cx="25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Datum: 06.05.2011                                                   1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er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Batteriesensor/ Steuergerä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51600" y="2600280"/>
            <a:ext cx="4425840" cy="332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ird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Minuspol befesti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Permanente Bewertung des aktuellen Ladezust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nalysiert vollgende Wer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pannung, -strom und -temperat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überprüft auch den Ruhe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teuergerät integr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Schaltplan des B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Batterie mit AGM-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800360"/>
            <a:ext cx="928692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GM bedeutet Absorbent Glass 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lekrolyt ist in einem Vlies aus Glasfasern gebu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öhere Zyklenfestigkeit im Vergleich zu traditionellen Batter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Verlust des aktiven Materials wird so weit w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öglich reduz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79640" y="3959280"/>
            <a:ext cx="828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0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Intelligente Generatorregelung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Verzöger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Verzögerung regelt der Generator auf Befehl des Motor-Steuergeräts seine Ladespannung auf 14 V wie bei einem herkömmlichen Generator, um der Motor-Bremswirkung Vorrang zu geb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Be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Beschleunig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Beschleunigung regelt der Generator auf Befehl des Motor-Steuergeräts seine Ladespannung auf einem niedrigeren Wert, also 13,2 V, um das Widerstandsmoment am Motor zu verringern und den Kraftstoffverbrauch zu senk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Ent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Stabilisierter 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stabilisierter Drehzahl regelt der Generator auf Befehl des Motor-Steuergeräts seine Ladespannung auf einen Zwischenwert, also 13,5 V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724360" y="16794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Die IGR-Funktion is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oftware, in der DME/D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tegrie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 der System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ind die beteilig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Komponenten dargestel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9640" y="3125880"/>
            <a:ext cx="5040360" cy="335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11360" y="18511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400" spc="-1" strike="noStrike">
                <a:solidFill>
                  <a:srgbClr val="19630d"/>
                </a:solidFill>
                <a:latin typeface="Arial"/>
                <a:ea typeface="MS Gothic"/>
              </a:rPr>
              <a:t>Bit seriell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348000" y="3573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MS Gothic"/>
              </a:rPr>
              <a:t>Ladezustand der Bat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3130560" y="2418840"/>
            <a:ext cx="866880" cy="93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65680" y="3556080"/>
          <a:ext cx="3044880" cy="3043080"/>
        </p:xfrm>
        <a:graphic>
          <a:graphicData uri="http://schemas.openxmlformats.org/drawingml/2006/table">
            <a:tbl>
              <a:tblPr/>
              <a:tblGrid>
                <a:gridCol w="792360"/>
                <a:gridCol w="2252520"/>
              </a:tblGrid>
              <a:tr h="3808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RKLÄ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ene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otorsteuerung (DME/D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telligenter Batteriesensor I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Fahrzeugbatt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Verbraucher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R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nergie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B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formations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1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</a:t>
            </a:r>
            <a:r>
              <a:rPr b="1" lang="de-DE" sz="3200" spc="-1" strike="noStrike" u="sng">
                <a:solidFill>
                  <a:srgbClr val="ffffff"/>
                </a:solidFill>
                <a:uFillTx/>
                <a:latin typeface="Century Gothic"/>
              </a:rPr>
              <a:t>IGR Übersich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2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Laderegelu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0360" y="1800000"/>
            <a:ext cx="867564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Bei Fahrzeugen ohne Rekuperation soll die Ladespan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konstant sein, denn der Bleiakkumulator verkraftet k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großen Ladespannungsschwankung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ie Ausgangsspannung ist stark drehzahl,- und last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abhängi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Ein Laderegler steuert über die Erregerspannung den Strom und damit die magnetische Feldstärke so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ass die Ladespannung konstant 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3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Multifunktionsregl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956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er Regler steuert 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regerst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besitzt keine Erregerdioden meh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 wird vom Steuerger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mit Impulsen angetakt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as Tastverhältnis ist ein Maß für den Auslastungs-grad des Generato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898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301320"/>
            <a:ext cx="9071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4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Lückentext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460520"/>
            <a:ext cx="907092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regenerative Bremsen, auch _____ genannt, ist ein rein ______ System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welches in der Lage ist den Kraftstoffverbrauch um ca. __% zu senk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besteht aus einem _______, einer intelligenten Generatorregel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iner  speziellen 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_______ kann den Ladezustand der Batterie analytisch ermitteln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über das______ System mit dem Motormanagement vernetz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raufhin kann die Generatorregelung, die im _______ integriert ist reagier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vom Fahrzeughersteller  definierte Ladezustand erreicht, wird di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_______ herabgesetzt und das _________ am Motor sink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wird Kraftstoff gespa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Soll-Ladezustand nicht erreicht  und es herrscht keine Bremsphas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nn wird die Ladespannung auf einen Mittelwert von ____V  gerege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eine Bremsphase vorhanden, dann wird verstärkt mit ____V geladen</a:t>
            </a:r>
            <a:r>
              <a:rPr b="1" lang="de-DE" sz="18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Datum: 06.05.2011                                                    2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Vielen Dank für Ihre Aufmerksamke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19630d"/>
                </a:solidFill>
                <a:latin typeface="Arial"/>
              </a:rPr>
              <a:t>Quellenangab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www.bos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wikipedia.org/wiki/Rekuperationsbre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varta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wikipedia.org/wiki/Bleiakkum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19630d"/>
                </a:solidFill>
                <a:latin typeface="Arial"/>
              </a:rPr>
              <a:t>Europa Fachkunde Buch 28te Auf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941400"/>
            <a:ext cx="9070920" cy="7262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 Der Widerstand                             16. Das Batterie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. Film Varta AG                                17. Der Batteriesensor/ Steuer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 Bestandteile eines                         18. Schaltplan des B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perations- systems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 Vernetzung des Systems             19. Batterie mit AGM-Technolo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 CAN-Datenbus                              20. Intelligente Generatorregelu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762120"/>
            <a:ext cx="9070920" cy="801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. IGR Übersicht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2. Laderegelung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. Multifunktionsregler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Zusammenfassung als Lücke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5. Ende der Präsentation und die Quellenangaben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70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Datum: 06.05.2011                                             1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Emission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2600"/>
            <a:ext cx="907092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elle:focus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 2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1387080"/>
            <a:ext cx="9070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in Kfz hat einen nur sehr geringen Wirkungsgr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thermische Wirkungsgrad ei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Otto-Motors liegt bei nur ca. 3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er Wirkungsgrad wird im Anschlu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ann nochmals durch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Reibungsverluste gemind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spricht hier v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m mechanischen Wirkungsgr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hohen Verluste haben ein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ohen, unnöt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Kraftstoffverbrauch zur Folge!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3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Lösungsansatz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42040" y="1768320"/>
            <a:ext cx="4046400" cy="498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79640"/>
            <a:ext cx="51912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verringert die Widerstä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m Kfz, indem man die  Zeit w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ie auftreten verkür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zw. entfallen lä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 soll beim                  elektrischen Widerstand  im Generator gescheh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58680"/>
            <a:ext cx="9071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Ide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19640" y="1800360"/>
            <a:ext cx="45007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219640" y="4140360"/>
            <a:ext cx="4500720" cy="287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3280" y="1714320"/>
            <a:ext cx="453528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Generator und die Kühlmittelpumpe eines Kfz werden angetrieben, sobald der Motor läu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beiden Aggregate laufen ununterbrochen m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wäre sinnvoll die Pumpe und den Generator nur an der Bewegungsenergie des Motors teilnehmen zulas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enn sie denn auch benötigt wer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Datum: 06.05.2011                                         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Rekuperation beim Kf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Es handelt sich um ein System bei einem Kfz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elches in der Lage ist, anhand von aufgenommenen Eingangsgrößen eine Regelung vorzuneh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iese Regelung bezieht sich auf die Verzögerungsphasen des Fahrzeu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und kann die „Bremsung“ nutzen, um Energ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in Form von elektrischen Strom zurückzugewinnen.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0720" y="4699080"/>
            <a:ext cx="8739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6:54:57Z</dcterms:created>
  <dc:creator/>
  <dc:description>Präsentationshintergrund Vorlage</dc:description>
  <dc:language>en-US</dc:language>
  <cp:lastModifiedBy>Mark</cp:lastModifiedBy>
  <dcterms:modified xsi:type="dcterms:W3CDTF">2011-05-05T13:32:56Z</dcterms:modified>
  <cp:revision>103</cp:revision>
  <dc:subject/>
  <dc:title>Blau und Grau</dc:title>
</cp:coreProperties>
</file>